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F43-AF05-4228-AB92-36967617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A3B-D57D-494C-A9A4-7902B07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58B-1E6F-427A-ACD5-FC1E3696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89C-308C-4410-8201-E99F133B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865-84C5-4202-89AD-8B04BEDC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2B2-A72C-4625-9127-718719A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780-A18B-4825-AD5E-D7A6A80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D0D-F6FA-4751-A9DB-C39DE97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860-5543-4FC5-935E-A1CA4015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6E3-5F0E-4E2D-9CEC-1B64440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EC4-F665-4E8A-B20E-C6F0F05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63D-072D-44AF-8D3A-D799926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4E4-48D8-46E9-9D62-A379B6DD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cc"/>
                </a:solidFill>
                <a:latin typeface="Arial"/>
              </a:rPr>
              <a:t>Decision Making Matri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66680" y="29718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ing a Close Look at Preliminary 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045880" y="5143680"/>
            <a:ext cx="50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eloped by Project Lead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62120" y="9144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 Scores Can Be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69960" y="246852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eric scale can be developed to assign values for each criteria categ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04720" y="3838680"/>
            <a:ext cx="8102880" cy="2076480"/>
            <a:chOff x="504720" y="3838680"/>
            <a:chExt cx="8102880" cy="2076480"/>
          </a:xfrm>
        </p:grpSpPr>
        <p:pic>
          <p:nvPicPr>
            <p:cNvPr id="63" name="Picture 5" descr="decisionmatrix"/>
            <p:cNvPicPr/>
            <p:nvPr/>
          </p:nvPicPr>
          <p:blipFill>
            <a:blip r:embed="rId1"/>
            <a:srcRect l="15276" t="83728" r="0" b="0"/>
            <a:stretch/>
          </p:blipFill>
          <p:spPr>
            <a:xfrm>
              <a:off x="504720" y="5037120"/>
              <a:ext cx="8102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1784520" y="4295880"/>
              <a:ext cx="30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Rank Sca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6029280" y="3838680"/>
              <a:ext cx="236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cc"/>
                  </a:solidFill>
                  <a:latin typeface="Arial"/>
                </a:rPr>
                <a:t>Question Sca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ockupmatrix"/>
          <p:cNvPicPr/>
          <p:nvPr/>
        </p:nvPicPr>
        <p:blipFill>
          <a:blip r:embed="rId1"/>
          <a:stretch/>
        </p:blipFill>
        <p:spPr>
          <a:xfrm>
            <a:off x="76320" y="2057400"/>
            <a:ext cx="8991360" cy="4567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37160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 Ran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1593720" y="2971800"/>
            <a:ext cx="542880" cy="2930040"/>
            <a:chOff x="1593720" y="2971800"/>
            <a:chExt cx="542880" cy="2930040"/>
          </a:xfrm>
        </p:grpSpPr>
        <p:sp>
          <p:nvSpPr>
            <p:cNvPr id="69" name="Text Box 5"/>
            <p:cNvSpPr/>
            <p:nvPr/>
          </p:nvSpPr>
          <p:spPr>
            <a:xfrm>
              <a:off x="160020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160020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1600200" y="37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593720" y="43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1603440" y="5019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0"/>
            <p:cNvSpPr/>
            <p:nvPr/>
          </p:nvSpPr>
          <p:spPr>
            <a:xfrm>
              <a:off x="1596960" y="544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2476440" y="2965320"/>
            <a:ext cx="542880" cy="2930040"/>
            <a:chOff x="2476440" y="2965320"/>
            <a:chExt cx="542880" cy="2930040"/>
          </a:xfrm>
        </p:grpSpPr>
        <p:sp>
          <p:nvSpPr>
            <p:cNvPr id="76" name="Text Box 12"/>
            <p:cNvSpPr/>
            <p:nvPr/>
          </p:nvSpPr>
          <p:spPr>
            <a:xfrm>
              <a:off x="2482920" y="2965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2482920" y="334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2482920" y="3772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2476440" y="4384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2486160" y="501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2479680" y="543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8"/>
          <p:cNvGrpSpPr/>
          <p:nvPr/>
        </p:nvGrpSpPr>
        <p:grpSpPr>
          <a:xfrm>
            <a:off x="3470400" y="2975040"/>
            <a:ext cx="542880" cy="2929680"/>
            <a:chOff x="3470400" y="2975040"/>
            <a:chExt cx="542880" cy="2929680"/>
          </a:xfrm>
        </p:grpSpPr>
        <p:sp>
          <p:nvSpPr>
            <p:cNvPr id="83" name="Text Box 19"/>
            <p:cNvSpPr/>
            <p:nvPr/>
          </p:nvSpPr>
          <p:spPr>
            <a:xfrm>
              <a:off x="3476520" y="297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3476520" y="3355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3476520" y="3781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2"/>
            <p:cNvSpPr/>
            <p:nvPr/>
          </p:nvSpPr>
          <p:spPr>
            <a:xfrm>
              <a:off x="3470400" y="43941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3"/>
            <p:cNvSpPr/>
            <p:nvPr/>
          </p:nvSpPr>
          <p:spPr>
            <a:xfrm>
              <a:off x="3479760" y="502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4"/>
            <p:cNvSpPr/>
            <p:nvPr/>
          </p:nvSpPr>
          <p:spPr>
            <a:xfrm>
              <a:off x="3473280" y="54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4543560" y="2968560"/>
            <a:ext cx="542880" cy="2930040"/>
            <a:chOff x="4543560" y="2968560"/>
            <a:chExt cx="542880" cy="2930040"/>
          </a:xfrm>
        </p:grpSpPr>
        <p:sp>
          <p:nvSpPr>
            <p:cNvPr id="90" name="Text Box 26"/>
            <p:cNvSpPr/>
            <p:nvPr/>
          </p:nvSpPr>
          <p:spPr>
            <a:xfrm>
              <a:off x="4549680" y="2968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7"/>
            <p:cNvSpPr/>
            <p:nvPr/>
          </p:nvSpPr>
          <p:spPr>
            <a:xfrm>
              <a:off x="4549680" y="3349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8"/>
            <p:cNvSpPr/>
            <p:nvPr/>
          </p:nvSpPr>
          <p:spPr>
            <a:xfrm>
              <a:off x="4549680" y="377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9"/>
            <p:cNvSpPr/>
            <p:nvPr/>
          </p:nvSpPr>
          <p:spPr>
            <a:xfrm>
              <a:off x="4543560" y="4387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0"/>
            <p:cNvSpPr/>
            <p:nvPr/>
          </p:nvSpPr>
          <p:spPr>
            <a:xfrm>
              <a:off x="4552920" y="501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31"/>
            <p:cNvSpPr/>
            <p:nvPr/>
          </p:nvSpPr>
          <p:spPr>
            <a:xfrm>
              <a:off x="4546440" y="5438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32"/>
          <p:cNvGrpSpPr/>
          <p:nvPr/>
        </p:nvGrpSpPr>
        <p:grpSpPr>
          <a:xfrm>
            <a:off x="5632560" y="2978280"/>
            <a:ext cx="542880" cy="2929680"/>
            <a:chOff x="5632560" y="2978280"/>
            <a:chExt cx="542880" cy="2929680"/>
          </a:xfrm>
        </p:grpSpPr>
        <p:sp>
          <p:nvSpPr>
            <p:cNvPr id="97" name="Text Box 33"/>
            <p:cNvSpPr/>
            <p:nvPr/>
          </p:nvSpPr>
          <p:spPr>
            <a:xfrm>
              <a:off x="5638680" y="2978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4"/>
            <p:cNvSpPr/>
            <p:nvPr/>
          </p:nvSpPr>
          <p:spPr>
            <a:xfrm>
              <a:off x="5638680" y="3359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5"/>
            <p:cNvSpPr/>
            <p:nvPr/>
          </p:nvSpPr>
          <p:spPr>
            <a:xfrm>
              <a:off x="5638680" y="3784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6"/>
            <p:cNvSpPr/>
            <p:nvPr/>
          </p:nvSpPr>
          <p:spPr>
            <a:xfrm>
              <a:off x="5632560" y="439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7"/>
            <p:cNvSpPr/>
            <p:nvPr/>
          </p:nvSpPr>
          <p:spPr>
            <a:xfrm>
              <a:off x="5641920" y="5025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5635800" y="54482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9"/>
          <p:cNvGrpSpPr/>
          <p:nvPr/>
        </p:nvGrpSpPr>
        <p:grpSpPr>
          <a:xfrm>
            <a:off x="6642000" y="2971800"/>
            <a:ext cx="542880" cy="2930040"/>
            <a:chOff x="6642000" y="2971800"/>
            <a:chExt cx="542880" cy="2930040"/>
          </a:xfrm>
        </p:grpSpPr>
        <p:sp>
          <p:nvSpPr>
            <p:cNvPr id="104" name="Text Box 40"/>
            <p:cNvSpPr/>
            <p:nvPr/>
          </p:nvSpPr>
          <p:spPr>
            <a:xfrm>
              <a:off x="66484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1"/>
            <p:cNvSpPr/>
            <p:nvPr/>
          </p:nvSpPr>
          <p:spPr>
            <a:xfrm>
              <a:off x="664848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2"/>
            <p:cNvSpPr/>
            <p:nvPr/>
          </p:nvSpPr>
          <p:spPr>
            <a:xfrm>
              <a:off x="6648480" y="377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3"/>
            <p:cNvSpPr/>
            <p:nvPr/>
          </p:nvSpPr>
          <p:spPr>
            <a:xfrm>
              <a:off x="6642000" y="4390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6651720" y="5019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6645240" y="544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6"/>
          <p:cNvGrpSpPr/>
          <p:nvPr/>
        </p:nvGrpSpPr>
        <p:grpSpPr>
          <a:xfrm>
            <a:off x="7620120" y="2965320"/>
            <a:ext cx="542880" cy="2930040"/>
            <a:chOff x="7620120" y="2965320"/>
            <a:chExt cx="542880" cy="2930040"/>
          </a:xfrm>
        </p:grpSpPr>
        <p:sp>
          <p:nvSpPr>
            <p:cNvPr id="111" name="Text Box 47"/>
            <p:cNvSpPr/>
            <p:nvPr/>
          </p:nvSpPr>
          <p:spPr>
            <a:xfrm>
              <a:off x="7626240" y="296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8"/>
            <p:cNvSpPr/>
            <p:nvPr/>
          </p:nvSpPr>
          <p:spPr>
            <a:xfrm>
              <a:off x="7626240" y="3346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9"/>
            <p:cNvSpPr/>
            <p:nvPr/>
          </p:nvSpPr>
          <p:spPr>
            <a:xfrm>
              <a:off x="7626240" y="3772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7620120" y="4384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7629480" y="5013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2"/>
            <p:cNvSpPr/>
            <p:nvPr/>
          </p:nvSpPr>
          <p:spPr>
            <a:xfrm>
              <a:off x="7623000" y="5435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8312040" y="2975040"/>
            <a:ext cx="542880" cy="2929680"/>
            <a:chOff x="8312040" y="2975040"/>
            <a:chExt cx="542880" cy="2929680"/>
          </a:xfrm>
        </p:grpSpPr>
        <p:sp>
          <p:nvSpPr>
            <p:cNvPr id="118" name="Text Box 54"/>
            <p:cNvSpPr/>
            <p:nvPr/>
          </p:nvSpPr>
          <p:spPr>
            <a:xfrm>
              <a:off x="8318520" y="2975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5"/>
            <p:cNvSpPr/>
            <p:nvPr/>
          </p:nvSpPr>
          <p:spPr>
            <a:xfrm>
              <a:off x="8318520" y="3355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8318520" y="37814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8312040" y="4394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8"/>
            <p:cNvSpPr/>
            <p:nvPr/>
          </p:nvSpPr>
          <p:spPr>
            <a:xfrm>
              <a:off x="8321760" y="502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9"/>
            <p:cNvSpPr/>
            <p:nvPr/>
          </p:nvSpPr>
          <p:spPr>
            <a:xfrm>
              <a:off x="8315280" y="54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371600" y="914400"/>
            <a:ext cx="50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762120" y="2544840"/>
            <a:ext cx="7721640" cy="3822840"/>
            <a:chOff x="762120" y="2544840"/>
            <a:chExt cx="7721640" cy="3822840"/>
          </a:xfrm>
        </p:grpSpPr>
        <p:sp>
          <p:nvSpPr>
            <p:cNvPr id="126" name="Text Box 4"/>
            <p:cNvSpPr/>
            <p:nvPr/>
          </p:nvSpPr>
          <p:spPr>
            <a:xfrm>
              <a:off x="762120" y="2544840"/>
              <a:ext cx="3809880" cy="38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eusabilit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4703760" y="2546280"/>
              <a:ext cx="378000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Cleanlin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esilien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750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estabilit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371600" y="914400"/>
            <a:ext cx="65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447840" y="2181240"/>
            <a:ext cx="8503920" cy="4535640"/>
            <a:chOff x="447840" y="2181240"/>
            <a:chExt cx="8503920" cy="4535640"/>
          </a:xfrm>
        </p:grpSpPr>
        <p:sp>
          <p:nvSpPr>
            <p:cNvPr id="130" name="Text Box 4"/>
            <p:cNvSpPr/>
            <p:nvPr/>
          </p:nvSpPr>
          <p:spPr>
            <a:xfrm>
              <a:off x="447840" y="2187720"/>
              <a:ext cx="39924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roduct life sp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velopment ti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terial co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4379760" y="2181240"/>
              <a:ext cx="4572000" cy="45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velopment co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nufacturing co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ompany standar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anufacturing capabiliti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spcBef>
                  <a:spcPts val="2251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afet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533520" y="2255760"/>
            <a:ext cx="7772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decisions should be based on analysis and logic; not personal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decision 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sign tool that may be used multiple times throughout a desig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981080" y="457200"/>
            <a:ext cx="55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ght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71600" y="9144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 a Decis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8600" y="2057400"/>
            <a:ext cx="35830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decision matri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used to compare design solutions against one another, using specific criteria that are often based on project require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ecisionmatrix"/>
          <p:cNvPicPr/>
          <p:nvPr/>
        </p:nvPicPr>
        <p:blipFill>
          <a:blip r:embed="rId1"/>
          <a:stretch/>
        </p:blipFill>
        <p:spPr>
          <a:xfrm>
            <a:off x="3863880" y="2209680"/>
            <a:ext cx="5280120" cy="2791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-Matrix (Pugh’s meth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ighted decis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65451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Selection –Pugh’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is an iterative evaluation that quickly identifies the strongest design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–Select the Criteria for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st of criteria must be developed from the customer needs and engineering specifications. All team members should contribute in making the li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Select the Design Solutions to be Com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ive design solutions should be those that proceed from the brainstorm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 –Generate the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vorite design solution should be selected a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l other designs are compared to it relative to each customer needs. For each comparison, the concept being evaluated is judged to be either better than (“+” score), about the same (“s” score), or worse than the datum (“-” scor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 scores can also b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3520" y="4572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Selection –Pugh’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Selection –Pugh’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Compute the total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cores are tallied, the number of plus scores, the number of minus scores and the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ost designs get the same score on a certain criterion, examine that criterion closely. More knowledge may have to be developed in the area of the criter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59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7200" y="177840"/>
            <a:ext cx="82296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54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2:17:24Z</dcterms:created>
  <dc:creator>Rebecca Bruce</dc:creator>
  <dc:description/>
  <dc:language>en-US</dc:language>
  <cp:lastModifiedBy>Ursela Jones</cp:lastModifiedBy>
  <dcterms:modified xsi:type="dcterms:W3CDTF">2015-07-08T15:15:42Z</dcterms:modified>
  <cp:revision>4</cp:revision>
  <dc:subject/>
  <dc:title>Decision Matrix</dc:title>
</cp:coreProperties>
</file>