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3AA-BE3E-44FF-815E-90C63DA3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ECA-C26D-4B5E-A4E4-1E83914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B83-8428-4110-91BC-45052CF6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F0C-72E7-4F9F-9721-FB36C103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7F3-5C49-4152-B839-71493BF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30D-8F0B-4F13-B711-DD766BE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C0A-68AB-434E-94AA-BB32E49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561-D02A-469E-8B8B-347BC07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5B2-71F1-4021-A21B-C33540CE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9C6-0126-4EA2-945D-C95D6CD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D94-D2AE-4545-9415-7FD2680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399-665E-478E-8DE1-B75F066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481-9C72-4673-8495-A016C3B7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0492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3716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3581280"/>
            <a:ext cx="4572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80988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120" y="438624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37080"/>
            <a:ext cx="243360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30000" y="550872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09480" y="383688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0360" y="4011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105520"/>
            <a:ext cx="33192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41400" y="5105520"/>
            <a:ext cx="1440" cy="33156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26" name="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t is.  And it is true for any right tri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181120" y="1523520"/>
            <a:ext cx="3739320" cy="5075280"/>
            <a:chOff x="5181120" y="1523520"/>
            <a:chExt cx="3739320" cy="5075280"/>
          </a:xfrm>
        </p:grpSpPr>
        <p:grpSp>
          <p:nvGrpSpPr>
            <p:cNvPr id="142" name=""/>
            <p:cNvGrpSpPr/>
            <p:nvPr/>
          </p:nvGrpSpPr>
          <p:grpSpPr>
            <a:xfrm>
              <a:off x="5181120" y="1523520"/>
              <a:ext cx="3739320" cy="5075280"/>
              <a:chOff x="5181120" y="1523520"/>
              <a:chExt cx="3739320" cy="5075280"/>
            </a:xfrm>
          </p:grpSpPr>
          <p:sp>
            <p:nvSpPr>
              <p:cNvPr id="143" name=""/>
              <p:cNvSpPr/>
              <p:nvPr/>
            </p:nvSpPr>
            <p:spPr>
              <a:xfrm>
                <a:off x="8686440" y="3581280"/>
                <a:ext cx="2340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57640" y="6095880"/>
                <a:ext cx="2340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5181120" y="1523520"/>
                <a:ext cx="3312000" cy="4423320"/>
                <a:chOff x="5181120" y="1523520"/>
                <a:chExt cx="3312000" cy="442332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8490960" y="1523880"/>
                  <a:ext cx="1800" cy="4421160"/>
                </a:xfrm>
                <a:prstGeom prst="line">
                  <a:avLst/>
                </a:prstGeom>
                <a:ln w="381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5181120" y="5945040"/>
                  <a:ext cx="3311640" cy="1800"/>
                </a:xfrm>
                <a:prstGeom prst="line">
                  <a:avLst/>
                </a:prstGeom>
                <a:ln w="381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181480" y="1523520"/>
                  <a:ext cx="3311640" cy="4421160"/>
                </a:xfrm>
                <a:prstGeom prst="line">
                  <a:avLst/>
                </a:prstGeom>
                <a:ln w="381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6315120" y="3154320"/>
                <a:ext cx="4669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097840" y="5562720"/>
              <a:ext cx="380880" cy="380880"/>
              <a:chOff x="8097840" y="5562720"/>
              <a:chExt cx="380880" cy="380880"/>
            </a:xfrm>
          </p:grpSpPr>
          <p:sp>
            <p:nvSpPr>
              <p:cNvPr id="151" name=""/>
              <p:cNvSpPr/>
              <p:nvPr/>
            </p:nvSpPr>
            <p:spPr>
              <a:xfrm>
                <a:off x="8097840" y="5562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809784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43000" y="3035160"/>
                <a:ext cx="3835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04840" y="458460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57" name="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161" name="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164" name="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168" name="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171" name="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175" name="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178" name="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185" name="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189" name="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192" name="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193" name="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5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199" name="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03" name="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06" name="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09" name="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12" name="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15" name="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18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23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26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32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35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42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45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56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59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8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1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60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is is a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55" name="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0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3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2" name="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95" name="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" y="15228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can use The Pythagorean Theorem to solve many kinds of proble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52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uppose you drive directly west for 12 mil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0960" y="34290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turn south and drive for 5 mile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790960" y="34290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3505320"/>
            <a:ext cx="0" cy="16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flipV="1">
            <a:off x="5791320" y="3504960"/>
            <a:ext cx="28954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How far are you from where you started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34290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8168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505320"/>
            <a:ext cx="0" cy="16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09480" y="28954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Using The Pythagorean Theorem,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790960" y="34290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3505320"/>
            <a:ext cx="0" cy="16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791320" y="3504960"/>
            <a:ext cx="2895480" cy="1600200"/>
          </a:xfrm>
          <a:prstGeom prst="line">
            <a:avLst/>
          </a:prstGeom>
          <a:ln w="6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28954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8954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8954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2895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228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Why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Can you see that we have a right triangle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09480" y="2286000"/>
            <a:ext cx="8077320" cy="2898000"/>
            <a:chOff x="609480" y="2286000"/>
            <a:chExt cx="8077320" cy="2898000"/>
          </a:xfrm>
        </p:grpSpPr>
        <p:grpSp>
          <p:nvGrpSpPr>
            <p:cNvPr id="333" name=""/>
            <p:cNvGrpSpPr/>
            <p:nvPr/>
          </p:nvGrpSpPr>
          <p:grpSpPr>
            <a:xfrm>
              <a:off x="4495680" y="2286000"/>
              <a:ext cx="4191120" cy="2898000"/>
              <a:chOff x="4495680" y="2286000"/>
              <a:chExt cx="4191120" cy="2898000"/>
            </a:xfrm>
          </p:grpSpPr>
          <p:sp>
            <p:nvSpPr>
              <p:cNvPr id="334" name=""/>
              <p:cNvSpPr/>
              <p:nvPr/>
            </p:nvSpPr>
            <p:spPr>
              <a:xfrm flipH="1">
                <a:off x="5790960" y="342900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81680" y="228600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38680" y="3505320"/>
                <a:ext cx="0" cy="164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95680" y="373392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5791320" y="3504960"/>
                <a:ext cx="2895480" cy="1600200"/>
              </a:xfrm>
              <a:prstGeom prst="line">
                <a:avLst/>
              </a:prstGeom>
              <a:ln w="62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86600" y="426708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0948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232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2880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14800" y="289548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5638320" y="342900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3505320"/>
            <a:ext cx="0" cy="1752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638680" y="3505320"/>
            <a:ext cx="304812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639400" y="3504960"/>
            <a:ext cx="291600" cy="288360"/>
            <a:chOff x="5639400" y="3504960"/>
            <a:chExt cx="291600" cy="288360"/>
          </a:xfrm>
        </p:grpSpPr>
        <p:sp>
          <p:nvSpPr>
            <p:cNvPr id="349" name=""/>
            <p:cNvSpPr/>
            <p:nvPr/>
          </p:nvSpPr>
          <p:spPr>
            <a:xfrm flipV="1">
              <a:off x="5639400" y="3789720"/>
              <a:ext cx="28800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929560" y="3504960"/>
              <a:ext cx="1440" cy="288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Which side is the hypotenuse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228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Which sides are the legs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09480" y="2286000"/>
            <a:ext cx="8077320" cy="2898000"/>
            <a:chOff x="609480" y="2286000"/>
            <a:chExt cx="8077320" cy="2898000"/>
          </a:xfrm>
        </p:grpSpPr>
        <p:grpSp>
          <p:nvGrpSpPr>
            <p:cNvPr id="354" name=""/>
            <p:cNvGrpSpPr/>
            <p:nvPr/>
          </p:nvGrpSpPr>
          <p:grpSpPr>
            <a:xfrm>
              <a:off x="4495680" y="2286000"/>
              <a:ext cx="4191120" cy="2898000"/>
              <a:chOff x="4495680" y="2286000"/>
              <a:chExt cx="4191120" cy="289800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5790960" y="342900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81680" y="228600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38680" y="3505320"/>
                <a:ext cx="0" cy="164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95680" y="373392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91320" y="3504960"/>
                <a:ext cx="2895480" cy="1600200"/>
              </a:xfrm>
              <a:prstGeom prst="line">
                <a:avLst/>
              </a:prstGeom>
              <a:ln w="62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6600" y="4267080"/>
                <a:ext cx="990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60948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232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2880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1280" y="28954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4800" y="289548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54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3" dur="1" fill="hold"/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073160" y="2914560"/>
          <a:ext cx="26161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2914560"/>
                    <a:ext cx="26161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4920" y="228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all we need to do is calculate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832280" y="3060720"/>
          <a:ext cx="28447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2280" y="3060720"/>
                    <a:ext cx="284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015920" y="4280040"/>
          <a:ext cx="15242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920" y="4280040"/>
                    <a:ext cx="1524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946240" y="4038480"/>
                <a:ext cx="635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04920" y="24444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end up 13 miles from where you started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790960" y="34290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3505320"/>
            <a:ext cx="0" cy="16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91320" y="3505320"/>
            <a:ext cx="289548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28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o, sinc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 baseline="4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is 169,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is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04920" y="228600"/>
            <a:ext cx="8610480" cy="916920"/>
            <a:chOff x="304920" y="228600"/>
            <a:chExt cx="8610480" cy="916920"/>
          </a:xfrm>
        </p:grpSpPr>
        <p:sp>
          <p:nvSpPr>
            <p:cNvPr id="383" name=""/>
            <p:cNvSpPr/>
            <p:nvPr/>
          </p:nvSpPr>
          <p:spPr>
            <a:xfrm>
              <a:off x="7086600" y="22860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99"/>
                  </a:solidFill>
                  <a:latin typeface="Times New Roman"/>
                </a:rPr>
                <a:t>13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920" y="228600"/>
              <a:ext cx="861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99"/>
                  </a:solidFill>
                  <a:latin typeface="Times New Roman"/>
                </a:rPr>
                <a:t>So, since </a:t>
              </a:r>
              <a:r>
                <a:rPr b="0" i="1" lang="en-US" sz="5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0" lang="en-US" sz="5400" spc="-1" strike="noStrike" baseline="40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5400" spc="-1" strike="noStrike">
                  <a:solidFill>
                    <a:srgbClr val="000099"/>
                  </a:solidFill>
                  <a:latin typeface="Times New Roman"/>
                </a:rPr>
                <a:t> is 169, </a:t>
              </a:r>
              <a:r>
                <a:rPr b="0" i="1" lang="en-US" sz="5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0" lang="en-US" sz="5400" spc="-1" strike="noStrike">
                  <a:solidFill>
                    <a:srgbClr val="000099"/>
                  </a:solidFill>
                  <a:latin typeface="Times New Roman"/>
                </a:rPr>
                <a:t> is 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4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71748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We call it a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ight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triangle because it contains a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ight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60" name="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 rot="20679000">
            <a:off x="263520" y="2638080"/>
            <a:ext cx="1371600" cy="448776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785160 h 4487760"/>
              <a:gd name="textAreaBottom" fmla="*/ 3253680 h 44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diagonal of the rect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87" name="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392" name="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9160" y="3581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97" name="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98" name="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diagonal of the rect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356000" y="2633760"/>
            <a:ext cx="4075560" cy="1914120"/>
            <a:chOff x="4356000" y="2633760"/>
            <a:chExt cx="4075560" cy="1914120"/>
          </a:xfrm>
        </p:grpSpPr>
        <p:sp>
          <p:nvSpPr>
            <p:cNvPr id="406" name="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9956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529160" y="3581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413" name="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417840" y="53352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13000" y="533520"/>
                <a:ext cx="31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152880" y="53352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29000" y="533520"/>
                <a:ext cx="2120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657600" y="736560"/>
                <a:ext cx="1447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421" name="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8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3000" y="40384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433" name="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diagonal of the rect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437" name="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42" name="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6" dur="1" fill="hold"/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447560" y="1904760"/>
            <a:ext cx="5867640" cy="2865240"/>
            <a:chOff x="1447560" y="1904760"/>
            <a:chExt cx="5867640" cy="2865240"/>
          </a:xfrm>
        </p:grpSpPr>
        <p:sp>
          <p:nvSpPr>
            <p:cNvPr id="448" name=""/>
            <p:cNvSpPr/>
            <p:nvPr/>
          </p:nvSpPr>
          <p:spPr>
            <a:xfrm>
              <a:off x="1828800" y="190512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560" y="2742840"/>
              <a:ext cx="2019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 ft            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19076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99800" y="4267080"/>
              <a:ext cx="979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.5 ft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1828800" y="190476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3619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8800" y="385884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60720" y="385884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52880" y="2362320"/>
            <a:ext cx="1752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4 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38400" y="212760"/>
            <a:ext cx="4348080" cy="2378160"/>
            <a:chOff x="3038400" y="212760"/>
            <a:chExt cx="4348080" cy="2378160"/>
          </a:xfrm>
        </p:grpSpPr>
        <p:sp>
          <p:nvSpPr>
            <p:cNvPr id="458" name=""/>
            <p:cNvSpPr/>
            <p:nvPr/>
          </p:nvSpPr>
          <p:spPr>
            <a:xfrm>
              <a:off x="7152480" y="14018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4736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5256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038400" y="945000"/>
              <a:ext cx="3949560" cy="1645920"/>
              <a:chOff x="3038400" y="945000"/>
              <a:chExt cx="3949560" cy="1645920"/>
            </a:xfrm>
          </p:grpSpPr>
          <p:sp>
            <p:nvSpPr>
              <p:cNvPr id="462" name=""/>
              <p:cNvSpPr/>
              <p:nvPr/>
            </p:nvSpPr>
            <p:spPr>
              <a:xfrm flipH="1" flipV="1">
                <a:off x="674892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038400" y="945000"/>
                <a:ext cx="3949560" cy="1645920"/>
                <a:chOff x="3038400" y="945000"/>
                <a:chExt cx="3949560" cy="1645920"/>
              </a:xfrm>
            </p:grpSpPr>
            <p:sp>
              <p:nvSpPr>
                <p:cNvPr id="464" name=""/>
                <p:cNvSpPr/>
                <p:nvPr/>
              </p:nvSpPr>
              <p:spPr>
                <a:xfrm flipH="1" flipV="1">
                  <a:off x="698688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039120" y="945000"/>
                  <a:ext cx="394848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038400" y="946080"/>
                  <a:ext cx="394956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flipV="1">
                  <a:off x="674820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038400" y="212760"/>
            <a:ext cx="4348080" cy="2378160"/>
            <a:chOff x="3038400" y="212760"/>
            <a:chExt cx="4348080" cy="2378160"/>
          </a:xfrm>
        </p:grpSpPr>
        <p:sp>
          <p:nvSpPr>
            <p:cNvPr id="469" name=""/>
            <p:cNvSpPr/>
            <p:nvPr/>
          </p:nvSpPr>
          <p:spPr>
            <a:xfrm>
              <a:off x="7152480" y="14018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4736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5256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038400" y="945000"/>
              <a:ext cx="3949560" cy="1645920"/>
              <a:chOff x="3038400" y="945000"/>
              <a:chExt cx="3949560" cy="1645920"/>
            </a:xfrm>
          </p:grpSpPr>
          <p:sp>
            <p:nvSpPr>
              <p:cNvPr id="473" name=""/>
              <p:cNvSpPr/>
              <p:nvPr/>
            </p:nvSpPr>
            <p:spPr>
              <a:xfrm flipH="1" flipV="1">
                <a:off x="674892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038400" y="945000"/>
                <a:ext cx="3949560" cy="1645920"/>
                <a:chOff x="3038400" y="945000"/>
                <a:chExt cx="3949560" cy="1645920"/>
              </a:xfrm>
            </p:grpSpPr>
            <p:sp>
              <p:nvSpPr>
                <p:cNvPr id="475" name=""/>
                <p:cNvSpPr/>
                <p:nvPr/>
              </p:nvSpPr>
              <p:spPr>
                <a:xfrm flipH="1" flipV="1">
                  <a:off x="698688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 flipV="1">
                  <a:off x="3039120" y="945000"/>
                  <a:ext cx="394848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038400" y="946080"/>
                  <a:ext cx="394956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674820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9" name="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483" name=""/>
          <p:cNvGraphicFramePr/>
          <p:nvPr/>
        </p:nvGraphicFramePr>
        <p:xfrm>
          <a:off x="577800" y="2241720"/>
          <a:ext cx="328932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2241720"/>
                    <a:ext cx="32893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31640" y="3003480"/>
          <a:ext cx="35690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" y="3003480"/>
                    <a:ext cx="3569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01480" y="3765600"/>
          <a:ext cx="355608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" y="3765600"/>
                    <a:ext cx="3556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143000" y="4527720"/>
          <a:ext cx="226044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527720"/>
                    <a:ext cx="2260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675320" y="3448080"/>
          <a:ext cx="2995560" cy="100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5320" y="3448080"/>
                    <a:ext cx="29955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2131920" y="914400"/>
            <a:ext cx="4525200" cy="3153960"/>
            <a:chOff x="2131920" y="914400"/>
            <a:chExt cx="4525200" cy="3153960"/>
          </a:xfrm>
        </p:grpSpPr>
        <p:sp>
          <p:nvSpPr>
            <p:cNvPr id="494" name=""/>
            <p:cNvSpPr/>
            <p:nvPr/>
          </p:nvSpPr>
          <p:spPr>
            <a:xfrm>
              <a:off x="4267080" y="9144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00440" y="236232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33920" y="29718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131920" y="1598760"/>
              <a:ext cx="4114440" cy="2469600"/>
              <a:chOff x="2131920" y="1598760"/>
              <a:chExt cx="4114440" cy="2469600"/>
            </a:xfrm>
          </p:grpSpPr>
          <p:sp>
            <p:nvSpPr>
              <p:cNvPr id="498" name=""/>
              <p:cNvSpPr/>
              <p:nvPr/>
            </p:nvSpPr>
            <p:spPr>
              <a:xfrm flipH="1" flipV="1">
                <a:off x="6243120" y="1601280"/>
                <a:ext cx="1800" cy="2467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2134800" y="1598760"/>
                <a:ext cx="4111560" cy="144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31920" y="1600920"/>
                <a:ext cx="4113360" cy="2467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5927760" y="1601280"/>
              <a:ext cx="320400" cy="320760"/>
              <a:chOff x="5927760" y="1601280"/>
              <a:chExt cx="320400" cy="32076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5927760" y="1919520"/>
                <a:ext cx="320400" cy="144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929560" y="1601280"/>
                <a:ext cx="0" cy="32076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6629400" y="232092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717480"/>
            <a:ext cx="72388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measure of a right angle is 90</a:t>
            </a:r>
            <a:r>
              <a:rPr b="0" lang="en-US" sz="54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66" name="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74" name="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1748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bout 2,500 years ago, a Greek mathematician named Pythagorus discovered a special relationship between the sides of right triang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87" name="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01" name="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11" name="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Mark Jankowski</cp:lastModifiedBy>
  <dcterms:modified xsi:type="dcterms:W3CDTF">2010-01-22T02:13:38Z</dcterms:modified>
  <cp:revision>7</cp:revision>
  <dc:subject/>
  <dc:title>PowerPoint Presentation</dc:title>
</cp:coreProperties>
</file>